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0E0-BC62-48F6-8308-B2A4A772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233-DE65-4DAF-9AB5-2207393D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A95-D98D-4518-87AA-EC75411B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6BA-562E-4120-96BF-6AAB0802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64D-2F7A-4E21-B7D7-527B9DE2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EAE-B77D-4EB7-BCDB-6C051A3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D2D-4F52-427F-A8E0-A06B4708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6A3-891B-471F-8450-ED880D87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D6D-4340-4078-9C15-DBA3E1E0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57C-6289-4F64-9B8D-2409E1F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083-496F-4E08-AAEB-2176B54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1AC-0563-45F4-9139-168578CD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534-F488-4186-A4A9-EAF0833E8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5909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419720"/>
            <a:ext cx="464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3434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19320"/>
            <a:ext cx="8001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276720"/>
            <a:ext cx="8001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334120"/>
            <a:ext cx="8001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9:05:34Z</dcterms:created>
  <dc:creator>amf</dc:creator>
  <dc:description/>
  <dc:language>en-US</dc:language>
  <cp:lastModifiedBy>Bellwood-Antis School District</cp:lastModifiedBy>
  <dcterms:modified xsi:type="dcterms:W3CDTF">2007-09-09T14:43:38Z</dcterms:modified>
  <cp:revision>9</cp:revision>
  <dc:subject/>
  <dc:title>Title</dc:title>
</cp:coreProperties>
</file>